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4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4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4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328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251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17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64328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5251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4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4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4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400" spc="-1" strike="noStrike">
              <a:solidFill>
                <a:srgbClr val="6c6963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114807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4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4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4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4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4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4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4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328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5251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7617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64328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5251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4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4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4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400" spc="-1" strike="noStrike">
              <a:solidFill>
                <a:srgbClr val="6c6963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4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114807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4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4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4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4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4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4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328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25160" y="276840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7617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4328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25160" y="5753520"/>
            <a:ext cx="369648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4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400" spc="-1" strike="noStrike">
              <a:solidFill>
                <a:srgbClr val="6c6963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114807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4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4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44520" y="575352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4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4520" y="2768400"/>
            <a:ext cx="56023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1760" y="5753520"/>
            <a:ext cx="114807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400" spc="-1" strike="noStrike">
                <a:solidFill>
                  <a:srgbClr val="6c6963"/>
                </a:solidFill>
                <a:latin typeface="Baskerville"/>
              </a:rPr>
              <a:t>Click to edit the title text format</a:t>
            </a:r>
            <a:endParaRPr b="0" lang="en-US" sz="7400" spc="-1" strike="noStrike">
              <a:solidFill>
                <a:srgbClr val="6c6963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400" spc="-1" strike="noStrike">
                <a:solidFill>
                  <a:srgbClr val="6c6963"/>
                </a:solidFill>
                <a:latin typeface="Baskerville"/>
              </a:rPr>
              <a:t>Click to edit the title text format</a:t>
            </a:r>
            <a:endParaRPr b="0" lang="en-US" sz="74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74000"/>
          </a:bodyPr>
          <a:p>
            <a:pPr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6c6963"/>
                </a:solidFill>
                <a:latin typeface="Baskerville"/>
              </a:rPr>
              <a:t>Click to edit the outline text format</a:t>
            </a: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  <a:p>
            <a:pPr lvl="1" marL="168840">
              <a:spcBef>
                <a:spcPts val="4201"/>
              </a:spcBef>
              <a:buClr>
                <a:srgbClr val="6c6963"/>
              </a:buClr>
              <a:buFont typeface="Baskerville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6c6963"/>
                </a:solidFill>
                <a:latin typeface="Baskerville"/>
              </a:rPr>
              <a:t>Second Outline Level</a:t>
            </a: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  <a:p>
            <a:pPr lvl="2" marL="338040">
              <a:spcBef>
                <a:spcPts val="4201"/>
              </a:spcBef>
              <a:buClr>
                <a:srgbClr val="6c6963"/>
              </a:buClr>
              <a:buFont typeface="Baskerville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6c6963"/>
                </a:solidFill>
                <a:latin typeface="Baskerville"/>
              </a:rPr>
              <a:t>Third Outline Level</a:t>
            </a: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  <a:p>
            <a:pPr lvl="3" marL="507240">
              <a:spcBef>
                <a:spcPts val="4201"/>
              </a:spcBef>
              <a:buClr>
                <a:srgbClr val="6c6963"/>
              </a:buClr>
              <a:buFont typeface="Baskerville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6c6963"/>
                </a:solidFill>
                <a:latin typeface="Baskerville"/>
              </a:rPr>
              <a:t>Fourth Outline Level</a:t>
            </a: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  <a:p>
            <a:pPr lvl="4" marL="676440">
              <a:spcBef>
                <a:spcPts val="4201"/>
              </a:spcBef>
              <a:buClr>
                <a:srgbClr val="6c6963"/>
              </a:buClr>
              <a:buFont typeface="Baskerville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6c6963"/>
                </a:solidFill>
                <a:latin typeface="Baskerville"/>
              </a:rPr>
              <a:t>Fifth Outline Level</a:t>
            </a: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  <a:p>
            <a:pPr lvl="5" marL="676440">
              <a:spcBef>
                <a:spcPts val="4201"/>
              </a:spcBef>
              <a:buClr>
                <a:srgbClr val="6c6963"/>
              </a:buClr>
              <a:buFont typeface="Baskerville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6c6963"/>
                </a:solidFill>
                <a:latin typeface="Baskerville"/>
              </a:rPr>
              <a:t>Sixth Outline Level</a:t>
            </a: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  <a:p>
            <a:pPr lvl="6" marL="676440">
              <a:spcBef>
                <a:spcPts val="4201"/>
              </a:spcBef>
              <a:buClr>
                <a:srgbClr val="6c6963"/>
              </a:buClr>
              <a:buFont typeface="Baskerville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6c6963"/>
                </a:solidFill>
                <a:latin typeface="Baskerville"/>
              </a:rPr>
              <a:t>Seventh Outline Level</a:t>
            </a: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LeatherBookTypeEmbellishGld.pdf"/>
          <p:cNvPicPr/>
          <p:nvPr/>
        </p:nvPicPr>
        <p:blipFill>
          <a:blip r:embed="rId3"/>
          <a:stretch/>
        </p:blipFill>
        <p:spPr>
          <a:xfrm>
            <a:off x="5753160" y="4775040"/>
            <a:ext cx="1955880" cy="3049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5120" y="1879560"/>
            <a:ext cx="11836440" cy="26035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6d625d">
                <a:alpha val="90000"/>
              </a:srgbClr>
            </a:outerShdw>
          </a:effectLst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400" spc="-1" strike="noStrike">
                <a:solidFill>
                  <a:srgbClr val="6c6963"/>
                </a:solidFill>
                <a:latin typeface="Baskerville"/>
              </a:rPr>
              <a:t>Click to edit the title text format</a:t>
            </a:r>
            <a:endParaRPr b="0" lang="en-US" sz="74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825120" y="5346360"/>
            <a:ext cx="11836440" cy="18543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6d625d">
                <a:alpha val="90000"/>
              </a:srgbClr>
            </a:outerShdw>
          </a:effectLst>
        </p:spPr>
        <p:txBody>
          <a:bodyPr lIns="0" rIns="0" tIns="0" bIns="0" anchor="t">
            <a:normAutofit fontScale="24000"/>
          </a:bodyPr>
          <a:p>
            <a:pPr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6c6963"/>
                </a:solidFill>
                <a:latin typeface="Baskerville"/>
              </a:rPr>
              <a:t>Click to edit the outline text format</a:t>
            </a: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  <a:p>
            <a:pPr lvl="1" marL="54720">
              <a:spcBef>
                <a:spcPts val="4201"/>
              </a:spcBef>
              <a:buClr>
                <a:srgbClr val="6c6963"/>
              </a:buClr>
              <a:buFont typeface="Baskerville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6c6963"/>
                </a:solidFill>
                <a:latin typeface="Baskerville"/>
              </a:rPr>
              <a:t>Second Outline Level</a:t>
            </a: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  <a:p>
            <a:pPr lvl="2" marL="109440">
              <a:spcBef>
                <a:spcPts val="4201"/>
              </a:spcBef>
              <a:buClr>
                <a:srgbClr val="6c6963"/>
              </a:buClr>
              <a:buFont typeface="Baskerville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6c6963"/>
                </a:solidFill>
                <a:latin typeface="Baskerville"/>
              </a:rPr>
              <a:t>Third Outline Level</a:t>
            </a: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  <a:p>
            <a:pPr lvl="3" marL="164520">
              <a:spcBef>
                <a:spcPts val="4201"/>
              </a:spcBef>
              <a:buClr>
                <a:srgbClr val="6c6963"/>
              </a:buClr>
              <a:buFont typeface="Baskerville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6c6963"/>
                </a:solidFill>
                <a:latin typeface="Baskerville"/>
              </a:rPr>
              <a:t>Fourth Outline Level</a:t>
            </a: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  <a:p>
            <a:pPr lvl="4" marL="219240">
              <a:spcBef>
                <a:spcPts val="4201"/>
              </a:spcBef>
              <a:buClr>
                <a:srgbClr val="6c6963"/>
              </a:buClr>
              <a:buFont typeface="Baskerville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6c6963"/>
                </a:solidFill>
                <a:latin typeface="Baskerville"/>
              </a:rPr>
              <a:t>Fifth Outline Level</a:t>
            </a: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  <a:p>
            <a:pPr lvl="5" marL="219240">
              <a:spcBef>
                <a:spcPts val="4201"/>
              </a:spcBef>
              <a:buClr>
                <a:srgbClr val="6c6963"/>
              </a:buClr>
              <a:buFont typeface="Baskerville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6c6963"/>
                </a:solidFill>
                <a:latin typeface="Baskerville"/>
              </a:rPr>
              <a:t>Sixth Outline Level</a:t>
            </a: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  <a:p>
            <a:pPr lvl="6" marL="219240">
              <a:spcBef>
                <a:spcPts val="4201"/>
              </a:spcBef>
              <a:buClr>
                <a:srgbClr val="6c6963"/>
              </a:buClr>
              <a:buFont typeface="Baskerville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6c6963"/>
                </a:solidFill>
                <a:latin typeface="Baskerville"/>
              </a:rPr>
              <a:t>Seventh Outline Level</a:t>
            </a: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5120" y="1879560"/>
            <a:ext cx="11836440" cy="26035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6d625d">
                <a:alpha val="90000"/>
              </a:srgbClr>
            </a:outerShdw>
          </a:effectLst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bea56d"/>
                </a:solidFill>
                <a:latin typeface="Baskerville"/>
              </a:rPr>
              <a:t>English</a:t>
            </a:r>
            <a:endParaRPr b="0" lang="en-US" sz="80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5120" y="5346360"/>
            <a:ext cx="11836440" cy="18543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6d625d">
                <a:alpha val="90000"/>
              </a:srgbClr>
            </a:outerShdw>
          </a:effectLst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5200" spc="-1" strike="noStrike">
                <a:solidFill>
                  <a:srgbClr val="bea56d"/>
                </a:solidFill>
                <a:latin typeface="Baskerville"/>
              </a:rPr>
              <a:t>March 3</a:t>
            </a:r>
            <a:endParaRPr b="0" lang="en-US" sz="5200" spc="-1" strike="noStrike">
              <a:solidFill>
                <a:srgbClr val="6c6963"/>
              </a:solidFill>
              <a:latin typeface="Baskervil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400" spc="-1" strike="noStrike">
                <a:solidFill>
                  <a:srgbClr val="6c6963"/>
                </a:solidFill>
                <a:latin typeface="Baskerville"/>
              </a:rPr>
              <a:t>Last week of vocabulary!!!</a:t>
            </a:r>
            <a:endParaRPr b="0" lang="en-US" sz="7400" spc="-1" strike="noStrike">
              <a:solidFill>
                <a:srgbClr val="6c6963"/>
              </a:solidFill>
              <a:latin typeface="Baskervil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379440"/>
            <a:ext cx="1148076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400" spc="-1" strike="noStrike">
                <a:solidFill>
                  <a:srgbClr val="6c6963"/>
                </a:solidFill>
                <a:latin typeface="Baskerville"/>
              </a:rPr>
              <a:t>Write the following:</a:t>
            </a:r>
            <a:endParaRPr b="0" lang="en-US" sz="74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565280"/>
            <a:ext cx="11480760" cy="76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15800" indent="-415800">
              <a:spcBef>
                <a:spcPts val="3200"/>
              </a:spcBef>
              <a:buSzPct val="100000"/>
              <a:buBlip>
                <a:blip r:embed="rId1"/>
              </a:buBlip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6c6963"/>
                </a:solidFill>
                <a:latin typeface="Baskerville"/>
              </a:rPr>
              <a:t>Surreptitious-secret, stealthy</a:t>
            </a:r>
            <a:endParaRPr b="0" lang="en-US" sz="3200" spc="-1" strike="noStrike">
              <a:solidFill>
                <a:srgbClr val="6c6963"/>
              </a:solidFill>
              <a:latin typeface="Baskerville"/>
            </a:endParaRPr>
          </a:p>
          <a:p>
            <a:pPr marL="415800" indent="-415800"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6c6963"/>
                </a:solidFill>
                <a:latin typeface="Baskerville"/>
              </a:rPr>
              <a:t>Tactful-considerate, skillful in not offending</a:t>
            </a:r>
            <a:endParaRPr b="0" lang="en-US" sz="3200" spc="-1" strike="noStrike">
              <a:solidFill>
                <a:srgbClr val="6c6963"/>
              </a:solidFill>
              <a:latin typeface="Baskerville"/>
            </a:endParaRPr>
          </a:p>
          <a:p>
            <a:pPr marL="415800" indent="-415800"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6c6963"/>
                </a:solidFill>
                <a:latin typeface="Baskerville"/>
              </a:rPr>
              <a:t>Tenacious-determined, keeping a firm grip on</a:t>
            </a:r>
            <a:endParaRPr b="0" lang="en-US" sz="3200" spc="-1" strike="noStrike">
              <a:solidFill>
                <a:srgbClr val="6c6963"/>
              </a:solidFill>
              <a:latin typeface="Baskerville"/>
            </a:endParaRPr>
          </a:p>
          <a:p>
            <a:pPr marL="415800" indent="-415800"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6c6963"/>
                </a:solidFill>
                <a:latin typeface="Baskerville"/>
              </a:rPr>
              <a:t>Transient-temporary, short-lived, fleeting</a:t>
            </a:r>
            <a:endParaRPr b="0" lang="en-US" sz="3200" spc="-1" strike="noStrike">
              <a:solidFill>
                <a:srgbClr val="6c6963"/>
              </a:solidFill>
              <a:latin typeface="Baskerville"/>
            </a:endParaRPr>
          </a:p>
          <a:p>
            <a:pPr marL="415800" indent="-415800"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6c6963"/>
                </a:solidFill>
                <a:latin typeface="Baskerville"/>
              </a:rPr>
              <a:t>Trite-boring, over-used</a:t>
            </a:r>
            <a:endParaRPr b="0" lang="en-US" sz="3200" spc="-1" strike="noStrike">
              <a:solidFill>
                <a:srgbClr val="6c6963"/>
              </a:solidFill>
              <a:latin typeface="Baskerville"/>
            </a:endParaRPr>
          </a:p>
          <a:p>
            <a:pPr marL="415800" indent="-415800"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6c6963"/>
                </a:solidFill>
                <a:latin typeface="Baskerville"/>
              </a:rPr>
              <a:t>Ubiquitous-widespread, being everywhere</a:t>
            </a:r>
            <a:endParaRPr b="0" lang="en-US" sz="3200" spc="-1" strike="noStrike">
              <a:solidFill>
                <a:srgbClr val="6c6963"/>
              </a:solidFill>
              <a:latin typeface="Baskerville"/>
            </a:endParaRPr>
          </a:p>
          <a:p>
            <a:pPr marL="415800" indent="-415800">
              <a:spcBef>
                <a:spcPts val="3200"/>
              </a:spcBef>
              <a:buSzPct val="100000"/>
              <a:buBlip>
                <a:blip r:embed="rId7"/>
              </a:buBlip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6c6963"/>
                </a:solidFill>
                <a:latin typeface="Baskerville"/>
              </a:rPr>
              <a:t>Venerable-respected because of age</a:t>
            </a:r>
            <a:endParaRPr b="0" lang="en-US" sz="3200" spc="-1" strike="noStrike">
              <a:solidFill>
                <a:srgbClr val="6c6963"/>
              </a:solidFill>
              <a:latin typeface="Baskerville"/>
            </a:endParaRPr>
          </a:p>
          <a:p>
            <a:pPr marL="415800" indent="-415800">
              <a:spcBef>
                <a:spcPts val="3200"/>
              </a:spcBef>
              <a:buSzPct val="100000"/>
              <a:buBlip>
                <a:blip r:embed="rId8"/>
              </a:buBlip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6c6963"/>
                </a:solidFill>
                <a:latin typeface="Baskerville"/>
              </a:rPr>
              <a:t>Vindictive-to clear from blame or suspicion</a:t>
            </a:r>
            <a:endParaRPr b="0" lang="en-US" sz="3200" spc="-1" strike="noStrike">
              <a:solidFill>
                <a:srgbClr val="6c6963"/>
              </a:solidFill>
              <a:latin typeface="Baskerville"/>
            </a:endParaRPr>
          </a:p>
          <a:p>
            <a:pPr marL="415800" indent="-415800">
              <a:spcBef>
                <a:spcPts val="3200"/>
              </a:spcBef>
              <a:buSzPct val="100000"/>
              <a:buBlip>
                <a:blip r:embed="rId9"/>
              </a:buBlip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6c6963"/>
                </a:solidFill>
                <a:latin typeface="Baskerville"/>
              </a:rPr>
              <a:t>Wary-careful, cautious</a:t>
            </a:r>
            <a:endParaRPr b="0" lang="en-US" sz="3200" spc="-1" strike="noStrike">
              <a:solidFill>
                <a:srgbClr val="6c6963"/>
              </a:solidFill>
              <a:latin typeface="Baskervill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400" spc="-1" strike="noStrike">
                <a:solidFill>
                  <a:srgbClr val="6c6963"/>
                </a:solidFill>
                <a:latin typeface="Baskerville"/>
              </a:rPr>
              <a:t>Next</a:t>
            </a:r>
            <a:endParaRPr b="0" lang="en-US" sz="74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6c6963"/>
                </a:solidFill>
                <a:latin typeface="Baskerville"/>
              </a:rPr>
              <a:t>Find the part of speech for each word, and one antonym.</a:t>
            </a: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379440"/>
            <a:ext cx="1148076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400" spc="-1" strike="noStrike">
                <a:solidFill>
                  <a:srgbClr val="6c6963"/>
                </a:solidFill>
                <a:latin typeface="Baskerville"/>
              </a:rPr>
              <a:t>Next</a:t>
            </a:r>
            <a:endParaRPr b="0" lang="en-US" sz="7400" spc="-1" strike="noStrike">
              <a:solidFill>
                <a:srgbClr val="6c6963"/>
              </a:solidFill>
              <a:latin typeface="Baskervil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533520" indent="-533520">
              <a:spcBef>
                <a:spcPts val="4201"/>
              </a:spcBef>
              <a:buSzPct val="100000"/>
              <a:buBlip>
                <a:blip r:embed="rId1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6c6963"/>
                </a:solidFill>
                <a:latin typeface="Baskerville"/>
              </a:rPr>
              <a:t>Use each word correctly in a sentence.</a:t>
            </a: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  <a:p>
            <a:pPr marL="533520" indent="-533520">
              <a:spcBef>
                <a:spcPts val="4201"/>
              </a:spcBef>
              <a:buSzPct val="100000"/>
              <a:buBlip>
                <a:blip r:embed="rId2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6c6963"/>
                </a:solidFill>
                <a:latin typeface="Baskerville"/>
              </a:rPr>
              <a:t>Switch with a partner and check each other’s usage. </a:t>
            </a:r>
            <a:endParaRPr b="0" lang="en-US" sz="4200" spc="-1" strike="noStrike">
              <a:solidFill>
                <a:srgbClr val="6c6963"/>
              </a:solidFill>
              <a:latin typeface="Baskervill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gie McCall</dc:creator>
  <dc:description/>
  <dc:language>en-US</dc:language>
  <cp:lastModifiedBy>Angie McCall</cp:lastModifiedBy>
  <dcterms:modified xsi:type="dcterms:W3CDTF">2014-03-03T17:17:02Z</dcterms:modified>
  <cp:revision>4</cp:revision>
  <dc:subject/>
  <dc:title>English</dc:title>
</cp:coreProperties>
</file>